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77A-092F-4F28-A15C-6A1381A5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CF8-1000-4E5A-AD0C-E6620F33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DDF98-4A3B-47D0-BFBA-AAA37AAE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8B254-BD27-428A-8A87-DC741193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67D58-6A26-44C8-B77C-B343D6F2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C2B3D-56FE-468D-B35E-B237334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C04E6-78FD-4268-9031-97A6F65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71A2C-649E-4F5C-8D95-68209BB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B78FB-9BBA-48BB-8381-5E09C819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687EE-2880-4788-B946-4B93A686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93ADC-CEFF-479C-B84B-4FCF9B7F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B4B1B-BEAA-48B7-AF8A-CF143462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6E2-9BF5-4D47-8A3C-0F13EBCE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86A91-2EC7-4B37-875C-3A935D3C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B982B-29A5-4C4B-9230-CAD661C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1F4B7-CC81-464B-AB87-844D2279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E65EC-1B2B-4EB7-9DD5-1E747015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F6778-34B6-4C6A-A5FF-E0233F58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1E04F-FA4F-4F32-8F0D-B7D975AA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17335-68DA-47AC-94D3-EEC19D77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5AB40-5F1D-4B88-A629-A7ECFA15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BC1D1-C552-4852-BADC-DAB955E2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0883B-C848-44CD-AD6A-1617A5CE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3FC-106D-42F6-B292-B08354D6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38D1F-3D3B-47A5-8C7B-8164C1FE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55718-3F21-4C6B-844A-63176F7C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46F6A-0621-41CA-9EC5-0FA58FED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F35F2-5C65-4C05-838C-AC1393BB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8B40E-F2D5-43AE-B650-53C9215F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EBA1B-B01F-4975-8CC5-FEDB73E0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A66A6-E543-4E05-9E21-2D2EC1E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29AFA-9BD3-42C3-864B-E93FF0C8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729F3-775F-47A7-A6DF-4BB7294D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5F066-321D-4D74-812A-D0A6BE1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F021-0BFC-4B0B-9A2B-B50851AB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09F6B-2136-4C05-BB13-F9F26836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703D7-B206-42EC-AC4B-2EAEFA04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FBB96-31CD-406F-A809-533EBCAC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28D9F-7354-4B58-A2F0-52EFF541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0AC66-76AD-4B2E-8BBF-604210DE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38E21-B971-46C4-B4C4-BE7C8D24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E2242-56E7-4DBF-AF6A-3B08B064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6F56A-8A01-4275-8F52-EB7E2EE9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FEBDF-941F-4BDF-B523-61F4D8A6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33180-C2FD-4131-87FE-DE9866C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9033-F268-4311-ABC3-CEA9585F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E3578-4890-4044-AB2D-7912CEA4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5A2BD-5EF4-402C-9509-FE23223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538A9-A882-44C0-A12D-DCFFF266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20694-0CDA-4F1D-9F62-27606658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15AD3-071E-49D4-93FD-649BFFEB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69EC1-E9A2-4DD6-8F3C-C5B46CAE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D17A1-8FD4-4F1E-B7C7-BF487365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C164A-E623-478E-B452-8EC2B73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D9D77-D156-450F-9AE8-39727B64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D200B-3905-42F0-B48E-BD89EA34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CD06-A434-4DFC-902D-8D880E9C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473DE-6289-4F14-BC13-EE1E7D8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5B73D-A5CA-408A-B10D-51E5B4A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84E2D-35D3-4C75-B624-056360D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1F573-FCDD-47A0-97F9-8F66066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6DBD4-A5A0-4958-A064-71F612AE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F0871-8870-44BC-ACD3-E22A5965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05914-D831-403C-8B45-C04F2359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8C609-CE60-4F24-9676-B8698D9F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E5668-E976-4402-ABB4-52A44A56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B8979-F566-41DB-ACF0-1C3E6CA8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7D1A-3155-4A73-908C-82CEEE08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EA046-65F2-42F8-A70B-12F923CC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9BC7B-FCDD-406F-881C-BF18CB5D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1D131-5ED3-42EF-8C91-CB3B8D51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6F679-C0DF-44E8-8196-85BAE20D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37444-7B68-41AF-AD58-F1116F1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96BC4-746C-4F0F-9EBF-A8A6F16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94E9B-3FE1-4DEA-9142-ECDC8913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3BE56-990F-4E28-8A3A-DF66E326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582E4-9418-4177-959F-0DBFCB7B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3DA63-E0E9-476D-9FB8-C16C1E85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C0BB-62D8-4A28-A11F-93FABF3C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53AB7-80DE-4EB5-81A1-0EBC414A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E2AE3-3C36-45FC-B713-49253162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02EDB-4724-4C76-A141-29FBD692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107F4-4B56-4AB8-9145-5284813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6F94B-D112-439E-AF99-978E0B4D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9C707-EE15-4985-A9D5-E2766C2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BB053-3CDA-44D5-A146-373EF3D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401F5-C71E-4A47-B000-B8B03DF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9AF97-334E-408E-9A7A-1C60E66B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44981-FF2F-48D8-9A17-2800B956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24E-3EE5-4EAB-BC72-AD0BD4FA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AF16B-4860-4B4A-B7B0-E5BD93AC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45701-D79A-4190-BCB1-777D4034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FC3DA5-6DE1-4E68-B7BE-BA269909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E3266-AB33-40E6-813D-908DA52D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3A091-623B-4E4A-A132-F697983F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BDA3C-0919-498F-8D3B-09F3EA82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DB30E-5D80-4F8A-926D-BAA2D469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804A2-A8B2-47AA-A3CB-0BE7373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E2E41-11FE-4E60-AE63-D553692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54420-422C-4AE9-BA3C-AF83C30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D861-1E29-4C48-A07B-5E73CC8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8E426-E103-4BD0-ACC7-118AE5FF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69692-39D5-4881-BE43-C2EA8D3F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28037-4A35-4E6B-871E-3C427FB5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B616E-178B-47F5-B8F2-798D1A49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365EC-B95F-4E38-BD6A-5A333AB7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3345F-70F5-494D-851B-07E2A6C4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D029C-4605-44F4-B927-1D9856C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264CF-A1AF-4E9C-9780-AF25C949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24B10-B0E5-4ADD-90F2-8DE9C59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3DC30-E1B4-428D-B2C9-DFEF95A3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652-FAEC-4048-A839-8DCB4015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6C57-0237-4B91-A7DA-43B008B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ED7261-FE38-4260-BF29-523FDD76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D9942-92D9-46E3-B280-193366C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2564C-A2B5-458F-9B0E-49F3269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12C95-295A-4549-850E-27146C4F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2F2F4-94B7-4307-A73E-3B5E2467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AEE58-0303-490F-910F-F360D48D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E89AF-DEA8-4EAD-A9C8-7159AA8B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8FC3D-7A97-4AF0-9961-D94CF668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C38A7-1EF5-49F8-9FFB-36F74103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32F8B-66A2-4739-905D-43A74365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78D-61AD-42AD-8218-9D81395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55194-0F01-46CB-9463-59CC055F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8886E-CE23-4C3E-BF49-EF3D4D0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1E70F7-8ADD-4AC0-B0A1-7B7A61CA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9DFEF-0D4B-4662-BA98-C2D7C35F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5A728-6B89-4F0F-8FDB-2FABD458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A9EE9-E77A-4A17-BDEC-53C3F8CB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3D16A-3540-4F60-8EF8-76C7A7AE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0098A-ADB2-4CE5-9C21-8527390A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E13A1-E736-43CB-931E-30E5B365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B67B1-7904-4056-A8DE-67E42223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46C2-EED8-4FC6-8F6F-6B6B07AE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B96AF-2EDA-4384-A268-2DC5080D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68640-0B91-449A-AFF3-90583119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59188-88C4-4F45-AD57-C336ADDC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57D9DF-A1CA-49BD-82F2-0A64D03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B9C147-A780-49CD-ADE9-E133442C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BA3DF-36CD-45A5-9622-4B0F6730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EF755D-3C10-44B4-B76E-C38AB71B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31BCD-A047-4C7B-BD67-9E51C738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8F14F-B2AB-4B25-9CA7-93570CE0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74306-98B4-4832-8EDA-B7A41443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E5ED-3D7C-4D67-B8FD-6C085E8E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D09EE-7AD4-4E4C-B7A4-DF3080F5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E56CF-6ACB-4DF2-B75C-BF80CA4F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66E45-932B-4687-88F4-08FEA635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ED76AA-8BC7-480E-AD04-F9585AF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F5A37-730D-4BAE-A28F-95C567AC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963638-6C40-484D-9125-7C6AAB2F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D0C1D-DB11-4DC2-91FC-53E9639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6279B-E32F-41AF-B9B8-57EAFAE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FFA58-35A6-4ECF-9F1E-3D7B4ACD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E17684-B7B3-45AE-BFA9-CE2AFDB1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5E2B-6ADB-42EE-B9DB-F4581B67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AA41F-7DA3-40F2-9A2A-B097F6BF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45DDC-63A5-4244-B4A8-C1D28BC4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C8083-1FDD-42C2-B2B6-E5DBB319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AEADC9-4DB5-40D0-83DF-CC3396BE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B56771-3790-4834-833B-CE9E416F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7EC98-9D9A-49C1-9F3D-20ED0496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42774-B29C-4A65-BD25-B1C014EA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E44AF-9BE1-4535-96EE-E15624E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CACD3-FBCC-411A-A219-D968A77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825A0-8A37-40F4-B0DF-856A6AF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C455-18E7-425D-A44A-175B6E21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C7AF9-69A1-4E84-A2C6-6BE127B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FBE27-0EDF-42EF-8F52-4D1BDA08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3DFA1-AE1C-4CC0-97C7-2FC82A8E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C109-ED2E-4582-A521-9B4B6B9F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56EE-0683-4456-86A4-65139B5C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A22B-F833-4FCF-A079-EB5268E8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221C-CD0E-4088-A516-8542AC45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6B3-FDB5-4E2F-99FF-2DA01273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4F42-6CC2-4CE7-A12E-7C81CE90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00B6D-E9B8-43A7-88BB-5642537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51CF-08F6-4D2B-83E0-66DBFF7D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3030-C627-4DD6-BC92-9432632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359F-4850-4EC7-A980-ED805A31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D799-0E70-47CB-ADE6-76B3E294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7890-E127-4F3D-9D86-95728146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51A0-3284-4580-824C-AF942A02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92F32-34C3-487D-9E73-5789CC3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1CA2-E05D-465B-B83E-3AEE1807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EB6-C54B-469F-BA80-560572FE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A887-A5F4-48F6-BB78-089397D5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3A0D-0DC8-4904-9B26-0FF2E80E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8F8F-5921-4076-9333-8866509F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C167-32A5-41CD-9269-92F58A0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FAD6-497D-41D2-B895-F77C1CE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F07C1-CFDE-48B1-8C58-0D667AD4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CD6D-B953-4629-867B-A876964E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A57A-2EEC-45A4-BFCF-1E06C310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C7B5-015D-4A13-9B6F-46B68E16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8BE73-9681-45A3-BFCA-2A229D9A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D10-A125-45B5-B861-01503A1D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93D7-2AFF-4ADB-BCB9-5CE6A27A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B66FE-3F3B-4D1F-8475-F2E61C77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8933-C3F4-4DFD-A290-94245D2D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15B3-FC60-4D8B-9480-CCFD683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A981B-C52F-47FA-909D-F7A1885B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7AE8-3064-4D48-904B-74D22FE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0FBD-D702-42DA-8312-229090B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F56E-799D-4124-BA50-E24B063B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679B8-FC41-4259-99FE-D42E12A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BFB5A-1394-4FDB-B036-139FDAFC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2E8-F9DB-4AE8-B3F6-97DE406F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D969-6403-4470-BA19-2BD3B07C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843D-4FB4-4F6D-8536-4880A87B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C0268-86D3-40FD-90A2-00645BAD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452DF-2334-4E13-B99D-AB002FBC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FCA3E-7BA7-4998-8E6C-AC9679AF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39217-6A7F-40D4-B568-3A06449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24C4F-6936-42DE-9330-60A63B94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D9F9A-B9A2-47C2-B0D2-B871A82C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72DBC-02B1-4D6E-9F8F-4DDDA241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0AB35-EEDA-4F3E-BAE3-7A97CCCB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CC6-A2ED-4872-8E5A-A63C5E0B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B929-D4DF-4A82-BA41-FE1C4C6A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9A1F3-3BF0-466D-AFE3-F26EE805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050A0-031D-4ACB-8145-355A439A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4FB0-9EE5-44BE-9F23-478A699C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E7AC7-386E-480C-A102-547857C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1B422-7102-40A1-A545-C2EAF73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BD347-6000-4DD4-8716-B0E99AC1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A2685-9C83-4C8C-92E5-251C7734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93FC2-F6D7-4250-AABF-E2CCEC65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2CA64-174F-4124-978D-A7BADC7C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04F-966A-437E-BDAA-5BE0FF9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D8F5B-4D44-40C6-A734-A87CE42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D64DF-657B-46B3-8B8B-666F67B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7330C-8387-4BE7-AA03-434EA6FE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7D137-66F3-4E1B-8C6D-38DC0D11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58E10-7E69-4BD7-963F-24B0523B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EB03E-9290-41A0-8E24-82F4E898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C7D2E-594F-4479-8E7D-7595600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3C5BD-C8D4-4E82-9EAC-A304D1CD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0604C-9EAA-4F52-B38A-5467EF4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C380C-95ED-43EE-B545-DF2E8DB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25B-5D4F-4E72-955E-D0F1685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F73E4-5BBD-4A3E-AA06-6A4B04D3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4E83C-D35B-4F44-AA02-FD92C231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9018D-3E67-41F8-8022-B6300C7C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A988-BEA7-4632-A9C2-CE1A5FB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470A2-09DE-4CC7-90EB-9C92EF31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9EEE3-F1CA-4A3F-B2CA-25FAB226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C5ED6-F69E-4040-A663-35A7E15E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01011-4BD8-46A1-B84A-9191FF9F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84241-6925-4652-AECD-3C9C58EC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91A19-F0A5-4FD0-A891-B5DFB008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388F-F002-4697-AB8F-B59149D738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E142-7DB5-405E-87F2-57814AF835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0219-6BF8-4807-ACA6-5B2E70566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FEF9-A027-48ED-BD05-A240118784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D1C5-CF51-4F8A-BCE8-2ECD19C2E7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78A2-A916-4346-A327-1B8E4DB3A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11D4-B3DA-49CB-9A2F-E64F67795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5B6C-E0E3-4BCB-A858-E3FBC08713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5313-8332-42AB-B787-4FDB5595D3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70F3-BFAD-4408-BCFE-D41DEC1263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7D34-B156-48D2-BB92-8B848BC0B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5A02-E24C-4633-9FC2-BE290619D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D12-2874-4C31-8C95-3CCF22DC10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E29C-521E-45ED-9C39-0BF4EE8A2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FBEC-A8F7-4AA3-B35B-25CDDD15CA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297-073B-4357-9DC6-A2C95B998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0BFD-2021-4740-937D-86F3F36B79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1DE7-3A71-4103-ABD9-71BCE9901E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C15-8369-4472-A9F7-5DC0F9773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DB06-36F3-430D-9BA9-080C879296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025-9E82-40E8-98E9-640D85E69B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3CFD-07EF-42E9-B2CE-8FC9639FC2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022D-9EFB-448B-B8A5-55694F01C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9717-7550-4CF3-8C3B-1E31C70D4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ED6A-03D0-4914-93C9-0B3189F16B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0FA5-AEFF-499F-8BF7-0297036B79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6021-07A2-4024-9833-29C6F8BCCA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DB59-D68F-46B3-A313-E8BC60B04F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590C-D2C8-4AFD-B404-95F9259F77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7D1C-FA81-4EDA-8112-DB0570D144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157B-F9A6-456A-9287-5E08F8D01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44F9-EE69-4D75-AB0C-BEA0A8DAC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185C-2AF2-40C0-9CAC-C5D4E477B9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64B-D336-4E38-A622-DA2D29D30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4635-6266-4CAA-901B-30F46CA81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ECF8-80B2-410D-A119-3E82BF2074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0CF1-EB79-4952-9BD1-00EC28337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6ED0-AAD1-4B3B-A4D0-EA154BECB0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A70-282F-4B7B-8902-BF8684CED4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24B-6B69-4B1A-99A1-DD9C709A8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1000" y="2986200"/>
            <a:ext cx="89820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组合 69635"/>
          <p:cNvGrpSpPr/>
          <p:nvPr/>
        </p:nvGrpSpPr>
        <p:grpSpPr>
          <a:xfrm>
            <a:off x="200160" y="385920"/>
            <a:ext cx="8743680" cy="6283080"/>
            <a:chOff x="200160" y="385920"/>
            <a:chExt cx="8743680" cy="6283080"/>
          </a:xfrm>
        </p:grpSpPr>
        <p:pic>
          <p:nvPicPr>
            <p:cNvPr id="953" name="图片 69633" descr=""/>
            <p:cNvPicPr/>
            <p:nvPr/>
          </p:nvPicPr>
          <p:blipFill>
            <a:blip r:embed="rId1"/>
            <a:stretch/>
          </p:blipFill>
          <p:spPr>
            <a:xfrm>
              <a:off x="200160" y="385920"/>
              <a:ext cx="8743680" cy="60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2"/>
            <a:stretch/>
          </p:blipFill>
          <p:spPr>
            <a:xfrm>
              <a:off x="6804000" y="5815080"/>
              <a:ext cx="2089080" cy="85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1476360" y="31845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1476360" y="3933720"/>
            <a:ext cx="180036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2700360" y="4653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2340000" y="530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1908000" y="594828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727200"/>
            <a:ext cx="8591760" cy="6086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940360" y="511344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124000" y="6335640"/>
            <a:ext cx="158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81040" y="1604880"/>
            <a:ext cx="7981920" cy="36482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708360" y="224784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059280" y="4681440"/>
            <a:ext cx="136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271440" y="1000080"/>
            <a:ext cx="8601120" cy="485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576360" y="2271600"/>
            <a:ext cx="7991280" cy="2314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1619280" y="34718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314280" y="237960"/>
            <a:ext cx="8515440" cy="6382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71640" y="430704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971640" y="4869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900000" y="551664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900000" y="610704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95200" y="733320"/>
            <a:ext cx="8553600" cy="5791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16000" y="340056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395280" y="4119480"/>
            <a:ext cx="7848720" cy="8938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539640" y="521496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395280" y="5964120"/>
            <a:ext cx="784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285840" y="789120"/>
            <a:ext cx="85723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704880" y="2033640"/>
            <a:ext cx="7734240" cy="2790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39640" y="4091040"/>
            <a:ext cx="7561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6:3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